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5AFE-DC39-497A-BEC7-DE7486CBE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&amp; 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&amp; 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NA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DNA stores genetic information in segments called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Certain codons are translated by the cell into certain Am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NA Wo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NA stores genetic information in segments called ge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Certain codons are translated by the cell into certain Am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th type of macro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link between gen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rce of genetic information in chromos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4th type of macro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cal link between gen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rce of genetic information in chromos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do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tate amino-acid sequence in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hey do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tate amino-acid sequence in 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made of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units called nucleotides, connected in long ch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 have 3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5-Carbon sugar (pent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Nitrogen containing ba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ade of C, H and 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A phosphate group ( P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made of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units called nucleotides, connected in long 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otides have 3 par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5-Carbon sugar (pento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Nitrogen containing ba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made of C, H and 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A phosphate group ( P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types of Nucleotides (depending on the sugar they con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nucleic acids (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Deoxyribonucleic acids (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Deoxyribose (has just an hydrogen in the same place--- H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oxy = “minus oxygen”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ypes of Nucleotides (depending on the sugar they conta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nucleic acids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Deoxyribonucleic acids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Deoxyribose (has just an hydrogen in the same place--- H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oxy = “minus oxygen”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3 parts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 (no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Thymine (Only in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3 parts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 (no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ymine (Only in 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 3 part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 (with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Uracyl (only in 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 3 parts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 (with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Uracyl (only in 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vs R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Thymine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Double-stranded helix arran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Uracyl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- Single str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vs R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Thymine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Double-stranded helix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Uracyl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- Single stran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al mod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oposed by Watson &amp; Crick,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---T     ,     C---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mode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l proposed by Watson &amp; Crick, 19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---T     ,     C---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0AC-0844-4C1A-A62D-D857BA1D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9B6-3070-4856-B641-AC9D3029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068-3575-4C99-AF70-FE949F55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7AD-C3D9-4790-B0A1-9BB9F67E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E666-0650-4B2A-8674-C21DDC87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3832-562B-4979-930A-D9C4F1C2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2F3B-D620-4613-9DA2-35BBD215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DAAB-60FF-4D78-B7B1-FB5E372D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3F1B-08D8-4FC4-8E72-640F1300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314C-408C-4F73-A1A1-B639D657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4B5E-14B4-4F7E-A215-CED258A1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9EF-D426-4E46-90DA-21C26BAE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AB1A-CE0A-4B88-87E0-D84EF3C9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157A-0DB3-42FA-93BB-88056152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CED6-B4D1-4C7D-8CA6-35C88146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D357-876E-4A5C-A55C-984AFB47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AEA8-E5B9-4273-8AE3-C1AC90B2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58D-FF68-4A50-85CE-67D98D36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CF8-610F-4597-98A0-5BB8B498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432-76BD-41EB-AEE0-71A49032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496-3C65-494B-B029-2E2766B8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0AC-DB6A-4A75-8608-E964D1B2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F8C-E2C9-4373-921C-2DEC2664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298E-EB49-41C2-AD9D-A840FA16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48DC-2280-4BAB-AE43-AD166EBA8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A37B-B9FB-4A1D-BA34-8F2E33B19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Comic Sans MS"/>
              </a:rPr>
              <a:t>Nucleic Acid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omic Sans MS"/>
              </a:rPr>
              <a:t>DNA &amp; RN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How DNA Work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DNA stores genetic information in segments called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ge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2- The DNA code is in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Tri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Comic Sans MS"/>
              </a:rPr>
              <a:t>plet 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(short sequences of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nucleotides each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3- Certain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are translated by the cell into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ertain Ami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aci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4. Thus, the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nucleotide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DNA indicate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Amino acid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protein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are they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typ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chemical link between gene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sourc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 information in chromos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do they do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ctat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mino-acid sequence in prote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ive information to chromosomes, which is then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ssed from parent to offsp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re they made of 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mple units call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onnected in long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ave 3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5-Carbon sugar (pent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Nitrogen containing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made of C, H and 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A phosphate group ( P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 groups make the links that unite the sugars (hence a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ugar-phosphate backb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Two types of Nucleotides</a:t>
            </a: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(depending on the sugar they contain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nucleic acids (R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a hydroxyl group in the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arbon---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H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nucleic acids (D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just an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in the same place--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)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oxy = “minus oxygen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D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omposition (3 parts):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oxyr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no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Thymine (Only in 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R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mposition ( 3 parts)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with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Uracyl (only in R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DNA </a:t>
            </a: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vs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RN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oxyr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ymin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ub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stranded helix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Uracyl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Sing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tr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The Double Helix (DNA)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ructural model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Model proposed by Watson &amp; Crick, 195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wo sugar-phosphate strands, next to each other, but running in opposite direction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Comic Sans MS"/>
              </a:rPr>
              <a:t>Specific Hydrogen bonds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occur among bases from one chain to the othe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A---T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    ,     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C---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Due to this specificity, a certain base on one strand indicates a certain base in the other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he 2 strands intertwine, forming a double-helix that winds around a central ax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0:59:06Z</dcterms:created>
  <dc:creator>Cheryl Massengale</dc:creator>
  <dc:description/>
  <dc:language>en-US</dc:language>
  <cp:lastModifiedBy>LEGION</cp:lastModifiedBy>
  <dcterms:modified xsi:type="dcterms:W3CDTF">2016-12-07T09:19:58Z</dcterms:modified>
  <cp:revision>29</cp:revision>
  <dc:subject/>
  <dc:title>Nucleic Acids What are they ?</dc:title>
</cp:coreProperties>
</file>